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A76-A32D-4198-8EE3-68689088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796-FA41-4B63-9119-6F7C1804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9FF-8D7F-407D-B2AA-1083C4A7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937-3862-41DC-9C4A-89C2DE18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778-7023-4118-B57E-744F43FE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395-084A-4B7E-BFA8-99239DE6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714-9A64-4152-9E9F-12F50D9D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ADA-E25C-4C4C-B660-B895A383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6A0-9275-4467-9C3C-5A3EE7AB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4C2-6B91-4E2E-9F16-66BAE898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12E-7742-404B-A92C-23CACE94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930-9F82-4720-89A4-4451E728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10ED-E4F7-453F-BF96-59341C6F96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75640" y="491508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762120" y="1371600"/>
            <a:ext cx="792468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file contains the Plenary for this chapter in </a:t>
            </a:r>
            <a:br>
              <a:rPr sz="2000"/>
            </a:b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Physics For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the PowerPoint of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how well they have understood each section of wor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2120" y="5715000"/>
            <a:ext cx="62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22 –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2 :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00000" y="1268280"/>
            <a:ext cx="7272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peed of light i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adows are formed because light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____________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ge (soft) light sources give soft shadows. The central, dark part of the shadow i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ll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surrounded by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2 :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00000" y="1268280"/>
            <a:ext cx="7272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peed of light i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adows are formed because light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____________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ge (soft) light sources give soft shadows. The central, dark part of the shadow i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ll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surrounded by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059280" y="381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446720" y="1268280"/>
            <a:ext cx="316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300 million m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1409760" y="2359080"/>
            <a:ext cx="6697080" cy="891360"/>
            <a:chOff x="1409760" y="2359080"/>
            <a:chExt cx="6697080" cy="891360"/>
          </a:xfrm>
        </p:grpSpPr>
        <p:sp>
          <p:nvSpPr>
            <p:cNvPr id="52" name="Text Box 7"/>
            <p:cNvSpPr/>
            <p:nvPr/>
          </p:nvSpPr>
          <p:spPr>
            <a:xfrm>
              <a:off x="6522840" y="2359080"/>
              <a:ext cx="1584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trav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8"/>
            <p:cNvSpPr/>
            <p:nvPr/>
          </p:nvSpPr>
          <p:spPr>
            <a:xfrm>
              <a:off x="1409760" y="2790720"/>
              <a:ext cx="4390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in straight lin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Text Box 9"/>
          <p:cNvSpPr/>
          <p:nvPr/>
        </p:nvSpPr>
        <p:spPr>
          <a:xfrm>
            <a:off x="2919240" y="4562640"/>
            <a:ext cx="10558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um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5229360" y="4913280"/>
            <a:ext cx="1800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enum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Sue Holt</cp:lastModifiedBy>
  <dcterms:modified xsi:type="dcterms:W3CDTF">2017-04-20T17:04:49Z</dcterms:modified>
  <cp:revision>40</cp:revision>
  <dc:subject>Physics for You Support File</dc:subject>
  <dc:title>Physics for You</dc:title>
</cp:coreProperties>
</file>