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260-6C7B-4EEC-A1E7-67BC13D4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6E6-6CA7-43F4-9BD7-F021CBF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88E-1BDD-43B2-82B8-4C9A7322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335-90DD-47F4-BAD3-35AB4537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9B9-A75E-42B2-833E-AEFECAB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06B-02CF-40D0-876E-18218A0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C69-7E03-4458-BF9E-9D2978CB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FFE-ACCA-4B1D-973A-92C53FF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D72-8F89-4F5B-8ABF-E2963434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542-48EC-457C-9B86-74E5D28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6CC-10C1-4D05-840D-CC217F0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DF4-B843-4079-B3DE-0F8CFAD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ED5-D17D-46ED-8E55-EC25467555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748720" y="491508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62120" y="380880"/>
            <a:ext cx="6705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2 :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762120" y="167652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shadow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eanings of ‘umbra’ and ‘penumbr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ce between a solar eclipse and a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 pinhole camera forms an inverted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4-20T17:03:35Z</dcterms:modified>
  <cp:revision>10</cp:revision>
  <dc:subject>Physics for You Support File</dc:subject>
  <dc:title>Physics for You</dc:title>
</cp:coreProperties>
</file>